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CBF-9A38-49A5-9D45-1F3CC580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899-A18C-45A8-B510-1EBF9C31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C0F-B01B-4355-A92D-054B7260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73E-CAB4-4097-84A1-5CCF0C19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EFA-7B5E-4CB6-8846-E41CE324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234-4462-4FD5-86B9-4727AE5A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24B-22C3-4143-B8E5-96C9A822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060-4B9A-4A52-A215-11BF329A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201-0EB1-4051-9EA5-FF79D837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E5D-7AA6-433B-A831-9B98E3F4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C79-415D-4E31-BDCC-B0CB77D4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7CF-66C8-4501-AB61-5961FD4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87F5-F741-4620-B7D5-E9FF0A7F26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5" descr=""/>
          <p:cNvPicPr/>
          <p:nvPr/>
        </p:nvPicPr>
        <p:blipFill>
          <a:blip r:embed="rId1"/>
          <a:stretch/>
        </p:blipFill>
        <p:spPr>
          <a:xfrm>
            <a:off x="2319480" y="2090880"/>
            <a:ext cx="5187960" cy="443052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2411280" y="6922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台      阶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796000" y="148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森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826920" y="26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八年级语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·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上  新课标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[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人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2130840" y="1819440"/>
            <a:ext cx="4718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通过叙述父亲为盖新屋而拼命苦干的一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现了当时农民艰难困苦的生存状态和他们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变现状而不懈努力的精神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了作者对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崇敬和怜悯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对角圆角矩形 5"/>
          <p:cNvSpPr/>
          <p:nvPr/>
        </p:nvSpPr>
        <p:spPr>
          <a:xfrm>
            <a:off x="539640" y="1700280"/>
            <a:ext cx="8064720" cy="3313080"/>
          </a:xfrm>
          <a:custGeom>
            <a:avLst/>
            <a:gdLst/>
            <a:ahLst/>
            <a:rect l="l" t="t" r="r" b="b"/>
            <a:pathLst>
              <a:path w="8064896" h="3312368">
                <a:moveTo>
                  <a:pt x="552072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2760295"/>
                </a:lnTo>
                <a:cubicBezTo>
                  <a:pt x="8064896" y="3065196"/>
                  <a:pt x="7817725" y="3312367"/>
                  <a:pt x="7512824" y="3312367"/>
                </a:cubicBezTo>
                <a:lnTo>
                  <a:pt x="0" y="3312368"/>
                </a:lnTo>
                <a:lnTo>
                  <a:pt x="0" y="3312368"/>
                </a:lnTo>
                <a:lnTo>
                  <a:pt x="0" y="552072"/>
                </a:lnTo>
                <a:cubicBezTo>
                  <a:pt x="0" y="247171"/>
                  <a:pt x="247171" y="0"/>
                  <a:pt x="552072" y="0"/>
                </a:cubicBez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9" descr=""/>
          <p:cNvPicPr/>
          <p:nvPr/>
        </p:nvPicPr>
        <p:blipFill>
          <a:blip r:embed="rId2"/>
          <a:stretch/>
        </p:blipFill>
        <p:spPr>
          <a:xfrm>
            <a:off x="4740120" y="3741840"/>
            <a:ext cx="35877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脉络梳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pic>
        <p:nvPicPr>
          <p:cNvPr id="158" name="RJ8.eps" descr="id:2147501133;FounderCES"/>
          <p:cNvPicPr/>
          <p:nvPr/>
        </p:nvPicPr>
        <p:blipFill>
          <a:blip r:embed="rId2"/>
          <a:stretch/>
        </p:blipFill>
        <p:spPr>
          <a:xfrm>
            <a:off x="395280" y="1557360"/>
            <a:ext cx="8497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1937160" y="1538280"/>
            <a:ext cx="51760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为什么把造新屋的主体工程写得简略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反而把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台阶写得详细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的详略是由文章要表现的中心决定的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亲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屋的主要目的是建起高台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父亲想赢得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台阶是地位的象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以主体工程可以略写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造台阶则要详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标注 5"/>
          <p:cNvSpPr/>
          <p:nvPr/>
        </p:nvSpPr>
        <p:spPr>
          <a:xfrm>
            <a:off x="468360" y="2924280"/>
            <a:ext cx="7991280" cy="2449440"/>
          </a:xfrm>
          <a:prstGeom prst="wedgeRoundRectCallout">
            <a:avLst>
              <a:gd name="adj1" fmla="val 273"/>
              <a:gd name="adj2" fmla="val -57916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395280" y="1291680"/>
            <a:ext cx="87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为什么在描写老屋的三块青石板上用了那么多笔墨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篇小说题为“台阶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老屋的台阶上做文章有多方面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三块青石板的来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表现当年父亲的力气是那么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后面写造新屋的时候托石板闪了腰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后形成对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石板粗糙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以暗示当年经济条件很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“我”在台阶上跳上跳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明那时年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新屋造好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”已长大成人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准备盖房前后用的时间长。此外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孩子能连跳三级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见台阶之低。写父亲在台阶上的坐姿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写台阶之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对角圆角矩形 5"/>
          <p:cNvSpPr/>
          <p:nvPr/>
        </p:nvSpPr>
        <p:spPr>
          <a:xfrm>
            <a:off x="395280" y="1413000"/>
            <a:ext cx="8424720" cy="4895640"/>
          </a:xfrm>
          <a:custGeom>
            <a:avLst/>
            <a:gdLst/>
            <a:ahLst/>
            <a:rect l="l" t="t" r="r" b="b"/>
            <a:pathLst>
              <a:path w="8424936" h="4896544">
                <a:moveTo>
                  <a:pt x="816106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4080437"/>
                </a:lnTo>
                <a:cubicBezTo>
                  <a:pt x="8424936" y="4531160"/>
                  <a:pt x="8059553" y="4896543"/>
                  <a:pt x="7608830" y="4896543"/>
                </a:cubicBezTo>
                <a:lnTo>
                  <a:pt x="0" y="4896544"/>
                </a:lnTo>
                <a:lnTo>
                  <a:pt x="0" y="4896544"/>
                </a:lnTo>
                <a:lnTo>
                  <a:pt x="0" y="816106"/>
                </a:lnTo>
                <a:cubicBezTo>
                  <a:pt x="0" y="365383"/>
                  <a:pt x="365383" y="0"/>
                  <a:pt x="81610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2333520" y="1433520"/>
            <a:ext cx="5038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“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父亲”这一形象的典型意义是什么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作者对父亲寄予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怎样的思想感情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说塑造了发展中的中国农村一个农民的典型形象。他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液里有我们民族拼命硬干、坚忍不拔的精神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身上所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备的优秀品质代表了新旧交替时期中国农民的突出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一形象还告诉我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农民创业之所以如此艰难困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源在于经济落后。这篇小说回响着时代深沉的呼唤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万农民的希望在于先进的生产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农民急切盼望以此迅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变农村的落后面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束老牛拉破车的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对父亲的优秀品质表示敬仰和赞叹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父亲身上的中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统农民所特有的谦卑表示同情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改变农村的面貌寄予希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对角圆角矩形 5"/>
          <p:cNvSpPr/>
          <p:nvPr/>
        </p:nvSpPr>
        <p:spPr>
          <a:xfrm>
            <a:off x="539640" y="1484280"/>
            <a:ext cx="8209080" cy="865080"/>
          </a:xfrm>
          <a:custGeom>
            <a:avLst/>
            <a:gdLst/>
            <a:ahLst/>
            <a:rect l="l" t="t" r="r" b="b"/>
            <a:pathLst>
              <a:path w="8208912" h="864096">
                <a:moveTo>
                  <a:pt x="144018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720077"/>
                </a:lnTo>
                <a:cubicBezTo>
                  <a:pt x="8208912" y="799616"/>
                  <a:pt x="8144433" y="864095"/>
                  <a:pt x="8064894" y="864095"/>
                </a:cubicBezTo>
                <a:lnTo>
                  <a:pt x="0" y="864096"/>
                </a:lnTo>
                <a:lnTo>
                  <a:pt x="0" y="864096"/>
                </a:lnTo>
                <a:lnTo>
                  <a:pt x="0" y="144018"/>
                </a:lnTo>
                <a:cubicBezTo>
                  <a:pt x="0" y="64479"/>
                  <a:pt x="64479" y="0"/>
                  <a:pt x="14401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对角圆角矩形 6"/>
          <p:cNvSpPr/>
          <p:nvPr/>
        </p:nvSpPr>
        <p:spPr>
          <a:xfrm>
            <a:off x="395280" y="2492280"/>
            <a:ext cx="8353440" cy="3600720"/>
          </a:xfrm>
          <a:custGeom>
            <a:avLst/>
            <a:gdLst/>
            <a:ahLst/>
            <a:rect l="l" t="t" r="r" b="b"/>
            <a:pathLst>
              <a:path w="8352928" h="3600400">
                <a:moveTo>
                  <a:pt x="600078" y="0"/>
                </a:moveTo>
                <a:lnTo>
                  <a:pt x="8352928" y="0"/>
                </a:lnTo>
                <a:lnTo>
                  <a:pt x="8352928" y="0"/>
                </a:lnTo>
                <a:lnTo>
                  <a:pt x="8352928" y="3000321"/>
                </a:lnTo>
                <a:cubicBezTo>
                  <a:pt x="8352928" y="3331735"/>
                  <a:pt x="8084264" y="3600399"/>
                  <a:pt x="7752850" y="3600399"/>
                </a:cubicBezTo>
                <a:lnTo>
                  <a:pt x="0" y="3600400"/>
                </a:lnTo>
                <a:lnTo>
                  <a:pt x="0" y="3600400"/>
                </a:lnTo>
                <a:lnTo>
                  <a:pt x="0" y="600078"/>
                </a:lnTo>
                <a:cubicBezTo>
                  <a:pt x="0" y="268664"/>
                  <a:pt x="268664" y="0"/>
                  <a:pt x="600078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678960" y="885240"/>
            <a:ext cx="56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下列词语中加点字注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凹凼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尴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揩一把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往下挪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84360" y="3225600"/>
            <a:ext cx="84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拼音写汉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鞭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了高空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沟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着沙子和泥土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流着一大串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　　　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很强的黄泥掺上一些石灰水豆浆水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5"/>
          <p:cNvSpPr/>
          <p:nvPr/>
        </p:nvSpPr>
        <p:spPr>
          <a:xfrm>
            <a:off x="1116000" y="191628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6"/>
          <p:cNvSpPr/>
          <p:nvPr/>
        </p:nvSpPr>
        <p:spPr>
          <a:xfrm>
            <a:off x="3203640" y="191628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8"/>
          <p:cNvSpPr/>
          <p:nvPr/>
        </p:nvSpPr>
        <p:spPr>
          <a:xfrm>
            <a:off x="3492360" y="191628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9"/>
          <p:cNvSpPr/>
          <p:nvPr/>
        </p:nvSpPr>
        <p:spPr>
          <a:xfrm>
            <a:off x="1116000" y="249228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10"/>
          <p:cNvSpPr/>
          <p:nvPr/>
        </p:nvSpPr>
        <p:spPr>
          <a:xfrm>
            <a:off x="3276720" y="2492280"/>
            <a:ext cx="1429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11"/>
          <p:cNvSpPr/>
          <p:nvPr/>
        </p:nvSpPr>
        <p:spPr>
          <a:xfrm>
            <a:off x="900000" y="306864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12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4"/>
          <p:cNvSpPr/>
          <p:nvPr/>
        </p:nvSpPr>
        <p:spPr>
          <a:xfrm>
            <a:off x="1378800" y="141300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5"/>
          <p:cNvSpPr/>
          <p:nvPr/>
        </p:nvSpPr>
        <p:spPr>
          <a:xfrm>
            <a:off x="3913200" y="155736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n         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1543320" y="206064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4279680" y="206064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1198080" y="26370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4219200" y="263700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n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3051720" y="378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1"/>
          <p:cNvSpPr/>
          <p:nvPr/>
        </p:nvSpPr>
        <p:spPr>
          <a:xfrm>
            <a:off x="2990520" y="429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2"/>
          <p:cNvSpPr/>
          <p:nvPr/>
        </p:nvSpPr>
        <p:spPr>
          <a:xfrm>
            <a:off x="4142160" y="486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3"/>
          <p:cNvSpPr/>
          <p:nvPr/>
        </p:nvSpPr>
        <p:spPr>
          <a:xfrm>
            <a:off x="2693160" y="544500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黏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"/>
          <p:cNvSpPr/>
          <p:nvPr/>
        </p:nvSpPr>
        <p:spPr>
          <a:xfrm>
            <a:off x="1744200" y="1177920"/>
            <a:ext cx="5518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结合语境解释句中加点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农村里有这么个风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庭广众之下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夫妻俩从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坐一条板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庭广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偶尔出去一趟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来时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副若有所失的模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若有所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3978720" y="3213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人很多的公共场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2195640" y="4437000"/>
            <a:ext cx="5832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好像丢掉了什么东西。形容心神不定的神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5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6"/>
          <p:cNvSpPr/>
          <p:nvPr/>
        </p:nvSpPr>
        <p:spPr>
          <a:xfrm>
            <a:off x="4859280" y="242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8"/>
          <p:cNvSpPr/>
          <p:nvPr/>
        </p:nvSpPr>
        <p:spPr>
          <a:xfrm>
            <a:off x="5219640" y="242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9"/>
          <p:cNvSpPr/>
          <p:nvPr/>
        </p:nvSpPr>
        <p:spPr>
          <a:xfrm>
            <a:off x="5580000" y="242100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0"/>
          <p:cNvSpPr/>
          <p:nvPr/>
        </p:nvSpPr>
        <p:spPr>
          <a:xfrm>
            <a:off x="5292720" y="4365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1"/>
          <p:cNvSpPr/>
          <p:nvPr/>
        </p:nvSpPr>
        <p:spPr>
          <a:xfrm>
            <a:off x="5651640" y="4365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2"/>
          <p:cNvSpPr/>
          <p:nvPr/>
        </p:nvSpPr>
        <p:spPr>
          <a:xfrm>
            <a:off x="6012000" y="4365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3"/>
          <p:cNvSpPr/>
          <p:nvPr/>
        </p:nvSpPr>
        <p:spPr>
          <a:xfrm>
            <a:off x="6372360" y="4365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468360" y="1110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指出下列句子的修辞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们家的台阶高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高攀不上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柳树枝老是摇来摇去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摇不散父亲那专注的目光。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根很老的毛竹扁担受了震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便“嘎叽”地惨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一声。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　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极短的发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似刚收割过的庄稼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低不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灰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失去了生机。　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6735960" y="155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借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1047240" y="278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3135600" y="414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4215240" y="537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bt6.jpg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4032000" cy="792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"/>
          <p:cNvSpPr/>
          <p:nvPr/>
        </p:nvSpPr>
        <p:spPr>
          <a:xfrm>
            <a:off x="395280" y="9007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本文主题的理解最准确的一项是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父亲劳累半辈子终于造起有高台阶的新屋的故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赞美了中国劳动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吃苦耐劳、自强自立的精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记叙父亲大半辈子的劳动、生活和追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了对父亲愚公移山精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赞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流露出对农村生产力低下、农民生活贫困的慨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父亲为实现毕生愿望而努力的故事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映了中国农民思想的闭塞落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露出对农村生产力低下、农民生活贫困的慨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记叙父亲大半生的劳动、追求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了对父亲愚公移山精神的赞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流露出对农民思想闭塞、狭隘的不满与批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395280" y="5157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解析〕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概括不全面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C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理解不准确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章没有反映中国农民思想闭塞落后这一点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D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项理解不准确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章根本没有反映农民思想闭塞、狭隘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更谈不上对此不满与批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5152680" y="981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对角圆角矩形 5"/>
          <p:cNvSpPr/>
          <p:nvPr/>
        </p:nvSpPr>
        <p:spPr>
          <a:xfrm>
            <a:off x="395280" y="5084640"/>
            <a:ext cx="8424720" cy="1081080"/>
          </a:xfrm>
          <a:custGeom>
            <a:avLst/>
            <a:gdLst/>
            <a:ahLst/>
            <a:rect l="l" t="t" r="r" b="b"/>
            <a:pathLst>
              <a:path w="8424936" h="1080120">
                <a:moveTo>
                  <a:pt x="180023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900096"/>
                </a:lnTo>
                <a:cubicBezTo>
                  <a:pt x="8424936" y="999520"/>
                  <a:pt x="8344337" y="1080119"/>
                  <a:pt x="8244913" y="1080119"/>
                </a:cubicBezTo>
                <a:lnTo>
                  <a:pt x="0" y="1080120"/>
                </a:lnTo>
                <a:lnTo>
                  <a:pt x="0" y="1080120"/>
                </a:lnTo>
                <a:lnTo>
                  <a:pt x="0" y="180023"/>
                </a:lnTo>
                <a:cubicBezTo>
                  <a:pt x="0" y="80599"/>
                  <a:pt x="80599" y="0"/>
                  <a:pt x="18002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bt6.jpg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4032000" cy="792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2034360" y="1253880"/>
            <a:ext cx="534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下面提供的情境回答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生活中有很多时候父母不能理解你的做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你认为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己的做法有道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应该用得体的话说服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期末考试前夕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接到文学社社长的通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末到烈士陵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加采访活动。正想放松一下的你把活动计划告诉了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爸爸对你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和你妈妈已经商量好了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你期末考试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束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就去泰山旅游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爸爸的言外之意是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你用得体的语言说服爸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3"/>
          <p:cNvSpPr/>
          <p:nvPr/>
        </p:nvSpPr>
        <p:spPr>
          <a:xfrm>
            <a:off x="755640" y="3789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不能参加烈士陵园的采访活动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抓紧时间复习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迎接期末考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2029680" y="5017680"/>
            <a:ext cx="545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爸爸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参加这次采访活动能开拓我的视野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丰富我的阅历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接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爱国主义教育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减轻我紧张的学习压力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也是为了更好地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接期末考试啊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6"/>
          <p:cNvSpPr/>
          <p:nvPr/>
        </p:nvSpPr>
        <p:spPr>
          <a:xfrm>
            <a:off x="3708360" y="4221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684360" y="458136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900000" y="1290600"/>
            <a:ext cx="7704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生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凹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嵌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瓦罐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黏性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揩一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舀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筹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硌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尴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涎水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嘎叽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撬开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唿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门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烦躁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76240" y="2060640"/>
            <a:ext cx="10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215240" y="2060640"/>
            <a:ext cx="9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663960" y="206064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ɡ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0"/>
          <p:cNvSpPr/>
          <p:nvPr/>
        </p:nvSpPr>
        <p:spPr>
          <a:xfrm>
            <a:off x="1831320" y="2708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1"/>
          <p:cNvSpPr/>
          <p:nvPr/>
        </p:nvSpPr>
        <p:spPr>
          <a:xfrm>
            <a:off x="4710240" y="270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6740280" y="2708280"/>
            <a:ext cx="8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1846080" y="33577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ch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3932640" y="33577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ɡ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6578640" y="335772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 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1833840" y="400536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4427640" y="3933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g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8"/>
          <p:cNvSpPr/>
          <p:nvPr/>
        </p:nvSpPr>
        <p:spPr>
          <a:xfrm>
            <a:off x="6960240" y="4005360"/>
            <a:ext cx="9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q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9"/>
          <p:cNvSpPr/>
          <p:nvPr/>
        </p:nvSpPr>
        <p:spPr>
          <a:xfrm>
            <a:off x="1910160" y="465300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yǐ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"/>
          <p:cNvSpPr/>
          <p:nvPr/>
        </p:nvSpPr>
        <p:spPr>
          <a:xfrm>
            <a:off x="4357080" y="4653000"/>
            <a:ext cx="6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6727680" y="4653000"/>
            <a:ext cx="8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1846080" y="5229360"/>
            <a:ext cx="7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4"/>
          <p:cNvSpPr/>
          <p:nvPr/>
        </p:nvSpPr>
        <p:spPr>
          <a:xfrm>
            <a:off x="1403280" y="2492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5"/>
          <p:cNvSpPr/>
          <p:nvPr/>
        </p:nvSpPr>
        <p:spPr>
          <a:xfrm>
            <a:off x="3635280" y="249228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6"/>
          <p:cNvSpPr/>
          <p:nvPr/>
        </p:nvSpPr>
        <p:spPr>
          <a:xfrm>
            <a:off x="6372360" y="249228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1116000" y="3141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8"/>
          <p:cNvSpPr/>
          <p:nvPr/>
        </p:nvSpPr>
        <p:spPr>
          <a:xfrm>
            <a:off x="3635280" y="3141720"/>
            <a:ext cx="1447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9"/>
          <p:cNvSpPr/>
          <p:nvPr/>
        </p:nvSpPr>
        <p:spPr>
          <a:xfrm>
            <a:off x="5940360" y="314172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0"/>
          <p:cNvSpPr/>
          <p:nvPr/>
        </p:nvSpPr>
        <p:spPr>
          <a:xfrm>
            <a:off x="1116000" y="3789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1"/>
          <p:cNvSpPr/>
          <p:nvPr/>
        </p:nvSpPr>
        <p:spPr>
          <a:xfrm>
            <a:off x="3635280" y="378936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2"/>
          <p:cNvSpPr/>
          <p:nvPr/>
        </p:nvSpPr>
        <p:spPr>
          <a:xfrm>
            <a:off x="6012000" y="378936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3"/>
          <p:cNvSpPr/>
          <p:nvPr/>
        </p:nvSpPr>
        <p:spPr>
          <a:xfrm>
            <a:off x="6300720" y="378936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1116000" y="4437000"/>
            <a:ext cx="1429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3635280" y="4437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6"/>
          <p:cNvSpPr/>
          <p:nvPr/>
        </p:nvSpPr>
        <p:spPr>
          <a:xfrm>
            <a:off x="6227640" y="4437000"/>
            <a:ext cx="14472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7"/>
          <p:cNvSpPr/>
          <p:nvPr/>
        </p:nvSpPr>
        <p:spPr>
          <a:xfrm>
            <a:off x="1476360" y="5157720"/>
            <a:ext cx="142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8"/>
          <p:cNvSpPr/>
          <p:nvPr/>
        </p:nvSpPr>
        <p:spPr>
          <a:xfrm>
            <a:off x="3635280" y="5084640"/>
            <a:ext cx="14472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9"/>
          <p:cNvSpPr/>
          <p:nvPr/>
        </p:nvSpPr>
        <p:spPr>
          <a:xfrm>
            <a:off x="1403280" y="5732640"/>
            <a:ext cx="144360" cy="144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0"/>
          <p:cNvSpPr/>
          <p:nvPr/>
        </p:nvSpPr>
        <p:spPr>
          <a:xfrm>
            <a:off x="6372360" y="5084640"/>
            <a:ext cx="14436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对角圆角矩形 41"/>
          <p:cNvSpPr/>
          <p:nvPr/>
        </p:nvSpPr>
        <p:spPr>
          <a:xfrm>
            <a:off x="250920" y="1413000"/>
            <a:ext cx="8208720" cy="4752720"/>
          </a:xfrm>
          <a:custGeom>
            <a:avLst/>
            <a:gdLst/>
            <a:ahLst/>
            <a:rect l="l" t="t" r="r" b="b"/>
            <a:pathLst>
              <a:path w="8208912" h="4752528">
                <a:moveTo>
                  <a:pt x="792103" y="0"/>
                </a:moveTo>
                <a:lnTo>
                  <a:pt x="8208912" y="0"/>
                </a:lnTo>
                <a:lnTo>
                  <a:pt x="8208912" y="0"/>
                </a:lnTo>
                <a:lnTo>
                  <a:pt x="8208912" y="3960424"/>
                </a:lnTo>
                <a:cubicBezTo>
                  <a:pt x="8208912" y="4397890"/>
                  <a:pt x="7854275" y="4752527"/>
                  <a:pt x="7416809" y="4752527"/>
                </a:cubicBezTo>
                <a:lnTo>
                  <a:pt x="0" y="4752528"/>
                </a:lnTo>
                <a:lnTo>
                  <a:pt x="0" y="4752528"/>
                </a:lnTo>
                <a:lnTo>
                  <a:pt x="0" y="792103"/>
                </a:lnTo>
                <a:cubicBezTo>
                  <a:pt x="0" y="354637"/>
                  <a:pt x="354637" y="0"/>
                  <a:pt x="79210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"/>
          <p:cNvSpPr/>
          <p:nvPr/>
        </p:nvSpPr>
        <p:spPr>
          <a:xfrm>
            <a:off x="816840" y="1701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829800" y="278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4643280" y="2637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"/>
          <p:cNvSpPr/>
          <p:nvPr/>
        </p:nvSpPr>
        <p:spPr>
          <a:xfrm>
            <a:off x="4790520" y="42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0"/>
          <p:cNvSpPr/>
          <p:nvPr/>
        </p:nvSpPr>
        <p:spPr>
          <a:xfrm>
            <a:off x="912240" y="4292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1803960" y="2349360"/>
            <a:ext cx="1576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ū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铺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ù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店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5765760" y="2276640"/>
            <a:ext cx="1893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òu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露一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ù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露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5887080" y="3716280"/>
            <a:ext cx="237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jué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倔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juè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倔头倔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1895400" y="3860640"/>
            <a:ext cx="1974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钻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zu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钻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左大括号 16"/>
          <p:cNvSpPr/>
          <p:nvPr/>
        </p:nvSpPr>
        <p:spPr>
          <a:xfrm>
            <a:off x="1476360" y="270828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左大括号 17"/>
          <p:cNvSpPr/>
          <p:nvPr/>
        </p:nvSpPr>
        <p:spPr>
          <a:xfrm>
            <a:off x="5292720" y="414972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左大括号 18"/>
          <p:cNvSpPr/>
          <p:nvPr/>
        </p:nvSpPr>
        <p:spPr>
          <a:xfrm>
            <a:off x="1476360" y="422100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左大括号 19"/>
          <p:cNvSpPr/>
          <p:nvPr/>
        </p:nvSpPr>
        <p:spPr>
          <a:xfrm>
            <a:off x="5292720" y="263700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对角圆角矩形 20"/>
          <p:cNvSpPr/>
          <p:nvPr/>
        </p:nvSpPr>
        <p:spPr>
          <a:xfrm>
            <a:off x="250920" y="1628640"/>
            <a:ext cx="8497800" cy="3961080"/>
          </a:xfrm>
          <a:custGeom>
            <a:avLst/>
            <a:gdLst/>
            <a:ahLst/>
            <a:rect l="l" t="t" r="r" b="b"/>
            <a:pathLst>
              <a:path w="8496944" h="3960440">
                <a:moveTo>
                  <a:pt x="660086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300353"/>
                </a:lnTo>
                <a:cubicBezTo>
                  <a:pt x="8496944" y="3664908"/>
                  <a:pt x="8201413" y="3960439"/>
                  <a:pt x="7836858" y="3960439"/>
                </a:cubicBezTo>
                <a:lnTo>
                  <a:pt x="0" y="3960440"/>
                </a:lnTo>
                <a:lnTo>
                  <a:pt x="0" y="3960440"/>
                </a:lnTo>
                <a:lnTo>
                  <a:pt x="0" y="660086"/>
                </a:lnTo>
                <a:cubicBezTo>
                  <a:pt x="0" y="295531"/>
                  <a:pt x="295531" y="0"/>
                  <a:pt x="660086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4056840" y="83808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755640" y="1341360"/>
            <a:ext cx="437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跤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摔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佼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佼佼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洨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洨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j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皎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291280" y="1413000"/>
            <a:ext cx="2035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揩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揩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偕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é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偕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谐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é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和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1046880" y="4005360"/>
            <a:ext cx="2314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膀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肩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谤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诽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滂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滂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5578200" y="3933720"/>
            <a:ext cx="2564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涎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垂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诞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诞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铤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tǐng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铤而走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左大括号 11"/>
          <p:cNvSpPr/>
          <p:nvPr/>
        </p:nvSpPr>
        <p:spPr>
          <a:xfrm>
            <a:off x="4859280" y="1700280"/>
            <a:ext cx="144360" cy="144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441440"/>
              <a:gd name="textAreaBottom" fmla="*/ 143784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左大括号 13"/>
          <p:cNvSpPr/>
          <p:nvPr/>
        </p:nvSpPr>
        <p:spPr>
          <a:xfrm>
            <a:off x="684360" y="4365720"/>
            <a:ext cx="142560" cy="143964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1439640"/>
              <a:gd name="textAreaBottom" fmla="*/ 143604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左大括号 14"/>
          <p:cNvSpPr/>
          <p:nvPr/>
        </p:nvSpPr>
        <p:spPr>
          <a:xfrm>
            <a:off x="5003640" y="422100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1440000"/>
              <a:gd name="textAreaBottom" fmla="*/ 14364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左大括号 15"/>
          <p:cNvSpPr/>
          <p:nvPr/>
        </p:nvSpPr>
        <p:spPr>
          <a:xfrm>
            <a:off x="611280" y="170028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944720"/>
              <a:gd name="textAreaBottom" fmla="*/ 19411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"/>
                  <a:pt x="10800" y="133"/>
                </a:cubicBezTo>
                <a:lnTo>
                  <a:pt x="10800" y="10667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7"/>
                  <a:pt x="10800" y="10933"/>
                </a:cubicBezTo>
                <a:lnTo>
                  <a:pt x="10800" y="21467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对角圆角矩形 16"/>
          <p:cNvSpPr/>
          <p:nvPr/>
        </p:nvSpPr>
        <p:spPr>
          <a:xfrm>
            <a:off x="324000" y="1413000"/>
            <a:ext cx="8424720" cy="4680000"/>
          </a:xfrm>
          <a:custGeom>
            <a:avLst/>
            <a:gdLst/>
            <a:ahLst/>
            <a:rect l="l" t="t" r="r" b="b"/>
            <a:pathLst>
              <a:path w="8424936" h="4680520">
                <a:moveTo>
                  <a:pt x="780102" y="0"/>
                </a:moveTo>
                <a:lnTo>
                  <a:pt x="8424936" y="0"/>
                </a:lnTo>
                <a:lnTo>
                  <a:pt x="8424936" y="0"/>
                </a:lnTo>
                <a:lnTo>
                  <a:pt x="8424936" y="3900417"/>
                </a:lnTo>
                <a:cubicBezTo>
                  <a:pt x="8424936" y="4331255"/>
                  <a:pt x="8075672" y="4680519"/>
                  <a:pt x="7644834" y="4680519"/>
                </a:cubicBezTo>
                <a:lnTo>
                  <a:pt x="0" y="4680520"/>
                </a:lnTo>
                <a:lnTo>
                  <a:pt x="0" y="4680520"/>
                </a:lnTo>
                <a:lnTo>
                  <a:pt x="0" y="780102"/>
                </a:lnTo>
                <a:cubicBezTo>
                  <a:pt x="0" y="349264"/>
                  <a:pt x="349264" y="0"/>
                  <a:pt x="78010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1234080" y="1434960"/>
            <a:ext cx="1849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不足道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庭广众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言自语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眉顺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气派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3498120" y="2205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藐小得不值一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4160880" y="2781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人很多的公开场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2411280" y="35002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己跟自己说话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独自低声说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1"/>
          <p:cNvSpPr/>
          <p:nvPr/>
        </p:nvSpPr>
        <p:spPr>
          <a:xfrm>
            <a:off x="2484360" y="4005360"/>
            <a:ext cx="9053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低着眉头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眼中流露出顺从的神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驯良、顺从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106080" y="5300640"/>
            <a:ext cx="105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神气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对角圆角矩形 13"/>
          <p:cNvSpPr/>
          <p:nvPr/>
        </p:nvSpPr>
        <p:spPr>
          <a:xfrm>
            <a:off x="468360" y="1484280"/>
            <a:ext cx="7920000" cy="4608720"/>
          </a:xfrm>
          <a:custGeom>
            <a:avLst/>
            <a:gdLst/>
            <a:ahLst/>
            <a:rect l="l" t="t" r="r" b="b"/>
            <a:pathLst>
              <a:path w="7920880" h="4608512">
                <a:moveTo>
                  <a:pt x="768100" y="0"/>
                </a:moveTo>
                <a:lnTo>
                  <a:pt x="7920880" y="0"/>
                </a:lnTo>
                <a:lnTo>
                  <a:pt x="7920880" y="0"/>
                </a:lnTo>
                <a:lnTo>
                  <a:pt x="7920880" y="3840411"/>
                </a:lnTo>
                <a:cubicBezTo>
                  <a:pt x="7920880" y="4264621"/>
                  <a:pt x="7576990" y="4608511"/>
                  <a:pt x="7152780" y="4608511"/>
                </a:cubicBezTo>
                <a:lnTo>
                  <a:pt x="0" y="4608512"/>
                </a:lnTo>
                <a:lnTo>
                  <a:pt x="0" y="4608512"/>
                </a:lnTo>
                <a:lnTo>
                  <a:pt x="0" y="768100"/>
                </a:lnTo>
                <a:cubicBezTo>
                  <a:pt x="0" y="343890"/>
                  <a:pt x="343890" y="0"/>
                  <a:pt x="768100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1078920" y="1890720"/>
            <a:ext cx="1220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若有所失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尴尬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凼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筹划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2484360" y="2060640"/>
            <a:ext cx="62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感觉好像丢掉了什么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心情怅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1908000" y="2637000"/>
            <a:ext cx="34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神色、态度不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2072880" y="3284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0"/>
          <p:cNvSpPr/>
          <p:nvPr/>
        </p:nvSpPr>
        <p:spPr>
          <a:xfrm>
            <a:off x="2675160" y="3789360"/>
            <a:ext cx="126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想办法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定计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对角圆角矩形 11"/>
          <p:cNvSpPr/>
          <p:nvPr/>
        </p:nvSpPr>
        <p:spPr>
          <a:xfrm>
            <a:off x="539640" y="1700280"/>
            <a:ext cx="7993080" cy="3313080"/>
          </a:xfrm>
          <a:custGeom>
            <a:avLst/>
            <a:gdLst/>
            <a:ahLst/>
            <a:rect l="l" t="t" r="r" b="b"/>
            <a:pathLst>
              <a:path w="7992888" h="3312368">
                <a:moveTo>
                  <a:pt x="552072" y="0"/>
                </a:moveTo>
                <a:lnTo>
                  <a:pt x="7992888" y="0"/>
                </a:lnTo>
                <a:lnTo>
                  <a:pt x="7992888" y="0"/>
                </a:lnTo>
                <a:lnTo>
                  <a:pt x="7992888" y="2760295"/>
                </a:lnTo>
                <a:cubicBezTo>
                  <a:pt x="7992888" y="3065196"/>
                  <a:pt x="7745717" y="3312367"/>
                  <a:pt x="7440816" y="3312367"/>
                </a:cubicBezTo>
                <a:lnTo>
                  <a:pt x="0" y="3312368"/>
                </a:lnTo>
                <a:lnTo>
                  <a:pt x="0" y="3312368"/>
                </a:lnTo>
                <a:lnTo>
                  <a:pt x="0" y="552072"/>
                </a:lnTo>
                <a:cubicBezTo>
                  <a:pt x="0" y="247171"/>
                  <a:pt x="247171" y="0"/>
                  <a:pt x="55207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3" descr=""/>
          <p:cNvPicPr/>
          <p:nvPr/>
        </p:nvPicPr>
        <p:blipFill>
          <a:blip r:embed="rId2"/>
          <a:stretch/>
        </p:blipFill>
        <p:spPr>
          <a:xfrm>
            <a:off x="5435640" y="4005360"/>
            <a:ext cx="3457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2607480" y="1614240"/>
            <a:ext cx="4097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森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195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生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浙江衢州人。当代作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浙江省作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专业作家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6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在《烟雨楼》杂志发表处女作《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亮爬上来》后迅速成长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7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开始文学创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有《小学老师》《抒情年代》等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台阶》是作者亲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农村生活的深刻感受。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调南京军区政治部创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室任专业作家。近年来发表小说颇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有《十八里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房》《金奎银奎》《小学老师》《塌鼻大娘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对角圆角矩形 5"/>
          <p:cNvSpPr/>
          <p:nvPr/>
        </p:nvSpPr>
        <p:spPr>
          <a:xfrm>
            <a:off x="468360" y="1628640"/>
            <a:ext cx="8064360" cy="4248360"/>
          </a:xfrm>
          <a:custGeom>
            <a:avLst/>
            <a:gdLst/>
            <a:ahLst/>
            <a:rect l="l" t="t" r="r" b="b"/>
            <a:pathLst>
              <a:path w="8064896" h="4248472">
                <a:moveTo>
                  <a:pt x="708092" y="0"/>
                </a:moveTo>
                <a:lnTo>
                  <a:pt x="8064896" y="0"/>
                </a:lnTo>
                <a:lnTo>
                  <a:pt x="8064896" y="0"/>
                </a:lnTo>
                <a:lnTo>
                  <a:pt x="8064896" y="3540379"/>
                </a:lnTo>
                <a:cubicBezTo>
                  <a:pt x="8064896" y="3931447"/>
                  <a:pt x="7747872" y="4248471"/>
                  <a:pt x="7356804" y="4248471"/>
                </a:cubicBezTo>
                <a:lnTo>
                  <a:pt x="0" y="4248472"/>
                </a:lnTo>
                <a:lnTo>
                  <a:pt x="0" y="4248472"/>
                </a:lnTo>
                <a:lnTo>
                  <a:pt x="0" y="708092"/>
                </a:lnTo>
                <a:cubicBezTo>
                  <a:pt x="0" y="317024"/>
                  <a:pt x="317024" y="0"/>
                  <a:pt x="70809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2288520" y="1819440"/>
            <a:ext cx="4874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阶”是小说的线索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围绕“台阶”命题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意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洁而含蓄。“台阶”象征着父亲的不懈追求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象征着中国农民乃至整个中华民族在困境中追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与崛起的一种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对角圆角矩形 5"/>
          <p:cNvSpPr/>
          <p:nvPr/>
        </p:nvSpPr>
        <p:spPr>
          <a:xfrm>
            <a:off x="395280" y="1700280"/>
            <a:ext cx="8497800" cy="3384360"/>
          </a:xfrm>
          <a:custGeom>
            <a:avLst/>
            <a:gdLst/>
            <a:ahLst/>
            <a:rect l="l" t="t" r="r" b="b"/>
            <a:pathLst>
              <a:path w="8496944" h="3384376">
                <a:moveTo>
                  <a:pt x="564073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2820302"/>
                </a:lnTo>
                <a:cubicBezTo>
                  <a:pt x="8496944" y="3131831"/>
                  <a:pt x="8244400" y="3384375"/>
                  <a:pt x="7932871" y="3384375"/>
                </a:cubicBezTo>
                <a:lnTo>
                  <a:pt x="0" y="3384376"/>
                </a:lnTo>
                <a:lnTo>
                  <a:pt x="0" y="3384376"/>
                </a:lnTo>
                <a:lnTo>
                  <a:pt x="0" y="564073"/>
                </a:lnTo>
                <a:cubicBezTo>
                  <a:pt x="0" y="252544"/>
                  <a:pt x="252544" y="0"/>
                  <a:pt x="564073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5251320" y="3753000"/>
            <a:ext cx="31370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作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7"/>
          <p:cNvSpPr/>
          <p:nvPr/>
        </p:nvSpPr>
        <p:spPr>
          <a:xfrm>
            <a:off x="539640" y="836640"/>
            <a:ext cx="216072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bt2.jpg" descr=""/>
          <p:cNvPicPr/>
          <p:nvPr/>
        </p:nvPicPr>
        <p:blipFill>
          <a:blip r:embed="rId1"/>
          <a:stretch/>
        </p:blipFill>
        <p:spPr>
          <a:xfrm>
            <a:off x="2698920" y="189000"/>
            <a:ext cx="4176720" cy="647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1960560" y="1575720"/>
            <a:ext cx="5268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台阶》是作者亲历的农村生活的深刻感受。李森祥远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故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戎军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空的距离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他对故乡产生了一种极其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、真实的回忆。作者根据当时中国农村经济落后、生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力水平低下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许多农民以一种坚忍不拔的毅力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志改变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这一现实写了这篇小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森祥说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学作品中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闰土、骆驼祥子那样的形象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放前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《台阶》里的父亲是解放后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经有了一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意识的觉醒。《台阶》以‘台阶’这样一个意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造父亲的一生。从而传递出隐含的主题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就是父亲绝对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子成长的一个台阶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儿子是站在父亲肩膀上去够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人生果实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对角圆角矩形 5"/>
          <p:cNvSpPr/>
          <p:nvPr/>
        </p:nvSpPr>
        <p:spPr>
          <a:xfrm>
            <a:off x="250920" y="1557360"/>
            <a:ext cx="8497800" cy="4248000"/>
          </a:xfrm>
          <a:custGeom>
            <a:avLst/>
            <a:gdLst/>
            <a:ahLst/>
            <a:rect l="l" t="t" r="r" b="b"/>
            <a:pathLst>
              <a:path w="8496944" h="4248472">
                <a:moveTo>
                  <a:pt x="708092" y="0"/>
                </a:moveTo>
                <a:lnTo>
                  <a:pt x="8496944" y="0"/>
                </a:lnTo>
                <a:lnTo>
                  <a:pt x="8496944" y="0"/>
                </a:lnTo>
                <a:lnTo>
                  <a:pt x="8496944" y="3540379"/>
                </a:lnTo>
                <a:cubicBezTo>
                  <a:pt x="8496944" y="3931447"/>
                  <a:pt x="8179920" y="4248471"/>
                  <a:pt x="7788852" y="4248471"/>
                </a:cubicBezTo>
                <a:lnTo>
                  <a:pt x="0" y="4248472"/>
                </a:lnTo>
                <a:lnTo>
                  <a:pt x="0" y="4248472"/>
                </a:lnTo>
                <a:lnTo>
                  <a:pt x="0" y="708092"/>
                </a:lnTo>
                <a:cubicBezTo>
                  <a:pt x="0" y="317024"/>
                  <a:pt x="317024" y="0"/>
                  <a:pt x="708092" y="0"/>
                </a:cubicBezTo>
                <a:close/>
              </a:path>
            </a:pathLst>
          </a:cu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Windows 用户</cp:lastModifiedBy>
  <dcterms:modified xsi:type="dcterms:W3CDTF">2017-01-07T05:55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